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0603-06FE-49D7-892B-A2F8B4DE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9198-D1E9-4472-A983-3AA3D7A6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EE96-269D-4C56-999D-7BB7394F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BDB8-6ED3-4E2A-BE92-B39E1ACA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5379-D199-4080-B894-E6975759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4F78-BA15-47CC-810D-16832C9F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3DC5-35F8-41BE-BDBC-C95F642F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2663-B874-4BC1-8B01-BEA7DD31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43C6-B0F1-4865-AA3F-3701C9E0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7472-9B83-4278-8BCA-DA0CD43A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D272-5D73-4EFA-BBA4-76776BB1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AA45-DA7D-4A14-8A74-55213714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CDD3-3ECF-4BEC-A2FA-A3DCEB50F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IR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91120" y="3886200"/>
            <a:ext cx="3581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APTER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u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y bits of liquid or solid matter in the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- construction, forestry, fires, vehicles, household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ause respiratory problems, cancer, erode buil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construction_clipart_backhoe"/>
          <p:cNvPicPr/>
          <p:nvPr/>
        </p:nvPicPr>
        <p:blipFill>
          <a:blip r:embed="rId1"/>
          <a:stretch/>
        </p:blipFill>
        <p:spPr>
          <a:xfrm>
            <a:off x="4114800" y="5181480"/>
            <a:ext cx="190512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POLLU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3623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nd level oz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227160" y="6019920"/>
            <a:ext cx="866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 a second…I thought we liked ozone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ground_ozone"/>
          <p:cNvPicPr/>
          <p:nvPr/>
        </p:nvPicPr>
        <p:blipFill>
          <a:blip r:embed="rId1"/>
          <a:stretch/>
        </p:blipFill>
        <p:spPr>
          <a:xfrm>
            <a:off x="3048120" y="1371600"/>
            <a:ext cx="50292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zone in the Stratosp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protect the Earth from UV 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zone in the troposp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lu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respiratory problems- asthma, shortness of breath, permanent lung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img-thing?"/>
          <p:cNvPicPr/>
          <p:nvPr/>
        </p:nvPicPr>
        <p:blipFill>
          <a:blip r:embed="rId1"/>
          <a:stretch/>
        </p:blipFill>
        <p:spPr>
          <a:xfrm>
            <a:off x="914400" y="38098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from _________________ causes primary pollutants (NOx and VOCs) to interact and to attack O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t to O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se in summer/ win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se in urban/ rural ar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be done about air pollu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ir Act (1970, enhanced in 19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gulates vehicle emissions- catalytic co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Outlawed lead in gaso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% fewer emissions than 30 years 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industry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ni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ubbers (electrostatic precipitators)-remov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rticles (dust/smoke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releasing into 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be done about air pol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issions tr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ies can only pollute so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an sell “extra” pollution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ifornia’s Zero-emission vehicle progra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ed in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tail-pipe e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brid c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(electric) operated c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18288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ERATURE I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1905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rs when the air above is warmer then the air be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inversion"/>
          <p:cNvPicPr/>
          <p:nvPr/>
        </p:nvPicPr>
        <p:blipFill>
          <a:blip r:embed="rId1"/>
          <a:stretch/>
        </p:blipFill>
        <p:spPr>
          <a:xfrm>
            <a:off x="2209680" y="0"/>
            <a:ext cx="519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n make air pollution wor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mperature inver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of HOT air on top of COLD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older air is on bottom, polluted air is tra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LA, Mexico City, Donora 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ora, PA 1948 at 12 n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employer  was a zinc smelting factory – lots of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inversion + smog + no 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people d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,000 ill from sm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tators couldn’t see football players on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smog06"/>
          <p:cNvPicPr/>
          <p:nvPr/>
        </p:nvPicPr>
        <p:blipFill>
          <a:blip r:embed="rId1"/>
          <a:stretch/>
        </p:blipFill>
        <p:spPr>
          <a:xfrm>
            <a:off x="5105520" y="2209680"/>
            <a:ext cx="403848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harmful substances build up in the air it is called:  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should have ________, _________, and small amounts of argon, CO2, and water vap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Pollution and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 and nose irr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g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ys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ng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ng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oor air pollution-12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k building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er houses are so air tight that the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p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lutants inside/out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building_sm"/>
          <p:cNvPicPr/>
          <p:nvPr/>
        </p:nvPicPr>
        <p:blipFill>
          <a:blip r:embed="rId1"/>
          <a:stretch/>
        </p:blipFill>
        <p:spPr>
          <a:xfrm>
            <a:off x="4689360" y="1523880"/>
            <a:ext cx="3868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oor air pollu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O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(write this next to ‘C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y cl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a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 from breakdown of uranium in underground r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ading caus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nc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sbe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s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re retard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asbest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oor air pollu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h b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freshe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garettes/ pi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vented stoves/ heaters, fire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ty air conditioning 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dehyde from new cabinets , furniture, 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 from faulty hea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air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ck Building Syndr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youtube.com/watch?v=VEhzMZWfX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-S8vr27plZs&amp;feature=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yfsJ7TcDsy8&amp;feature=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youtube.com/watch?v=yIYim9SAx6A&amp;feature=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ead Pa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aL8Ae-zxuqM&amp;feature=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_sDV1RuHdMM&amp;feature=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sb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H7N7PYJweBA&amp;feature=fv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kinds of air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– a pollutant put into the air by human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al production.  Why?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– when primary pollutants mix with other pollutants or other things in the air (like_______  ________) to make new pollu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M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4267440" cy="24033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"/>
          <p:cNvSpPr/>
          <p:nvPr/>
        </p:nvSpPr>
        <p:spPr>
          <a:xfrm>
            <a:off x="829800" y="6324480"/>
            <a:ext cx="316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daac.gsfc.nasa.gov/oceancolor/locus/images/LA-smog-2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LA-smog-2"/>
          <p:cNvPicPr/>
          <p:nvPr/>
        </p:nvPicPr>
        <p:blipFill>
          <a:blip r:embed="rId2"/>
          <a:stretch/>
        </p:blipFill>
        <p:spPr>
          <a:xfrm>
            <a:off x="304920" y="3886200"/>
            <a:ext cx="441936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SMO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sunlight affecting and mixing with air, exhaust and oz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Hard to s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Unhealthy to brea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POLLU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 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x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x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te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s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orless, colorless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- cars,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eres with the body’s ability to carry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trongen ox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wn” sm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- burning fuels in cars, power plants,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ontribute to respiratory problems, cancer, ACID 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733920" y="1905120"/>
            <a:ext cx="4978440" cy="35049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4872600" y="5486400"/>
            <a:ext cx="282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i.treehugger.com/images/2007/10/24/smog-jj-001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smog-jj-001"/>
          <p:cNvPicPr/>
          <p:nvPr/>
        </p:nvPicPr>
        <p:blipFill>
          <a:blip r:embed="rId2"/>
          <a:stretch/>
        </p:blipFill>
        <p:spPr>
          <a:xfrm>
            <a:off x="4038480" y="2057400"/>
            <a:ext cx="494352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lfur diox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y” sm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- burning fossil fuels, volcanic eru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es to ACID RAIN, secondary pollutants cause respiratory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4495680" cy="31831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754920" y="5486400"/>
            <a:ext cx="3215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epcc.pref.osaka.jp/apec/eng/history/images/ab11_01.g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ab11_01"/>
          <p:cNvPicPr/>
          <p:nvPr/>
        </p:nvPicPr>
        <p:blipFill>
          <a:blip r:embed="rId2"/>
          <a:stretch/>
        </p:blipFill>
        <p:spPr>
          <a:xfrm>
            <a:off x="304920" y="2133720"/>
            <a:ext cx="449568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atile means 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porize (evaporate) into the air easily, and form toxic f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- burning fuels and off-gassing solvents (dry-clea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to SMOG, cause health problems, harm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11:49:43Z</dcterms:created>
  <dc:creator>udsd</dc:creator>
  <dc:description/>
  <dc:language>en-US</dc:language>
  <cp:lastModifiedBy>MVanElli</cp:lastModifiedBy>
  <dcterms:modified xsi:type="dcterms:W3CDTF">2011-05-16T15:09:29Z</dcterms:modified>
  <cp:revision>43</cp:revision>
  <dc:subject/>
  <dc:title>   AIR POLLUTION</dc:title>
</cp:coreProperties>
</file>